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919A-F79F-4504-B75A-830A98FE4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AC20-40B8-4912-B95A-3CD3905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C66E-E77D-4F13-8D6B-16F0708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576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8886-233D-4EE4-8A7A-6D450635A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5A892-1DD4-4072-A172-10D7D263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A910-FDBC-4217-956A-6F53BEB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2019A-6565-4EA2-89E7-A90A7382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A1A1-2BEA-46FF-AE2E-0989256A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E25F-A412-457D-B259-95040A6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2320" y="534600"/>
            <a:ext cx="7834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A3D2D-3B78-47EC-8007-D8570DA6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81CED-5F4B-41DB-80B4-9B22F59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555A-729F-45A1-9788-5444793F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AD07F-39C3-4BE4-8B42-FFD5C0F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012A6-744A-489D-ADA7-D4028B2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662B-5079-413B-B0C0-503431DA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731F-C474-44D7-8F4A-65076DFF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412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86012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1576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412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735360"/>
            <a:ext cx="241704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52465-1BE5-4E6C-9D28-0DA76096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654D-16F5-4D1B-B743-50BD89C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0139-E5B1-4544-B4D1-D9BA5C0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CE4B-27E9-480A-8817-5C9C64E1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2320" y="534600"/>
            <a:ext cx="78343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C82F-C181-4E29-935F-28B7BF58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268D-2D6B-4BFD-B65B-6FED3E3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73536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ED9C-EF4D-4B8D-907D-AAD5818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576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860120"/>
            <a:ext cx="366336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5760" y="3735360"/>
            <a:ext cx="7507080" cy="171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44A9-9049-49BB-98A5-CB97FE5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BB61-62E3-464A-98FD-BBDA30C89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534600"/>
            <a:ext cx="78343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5760" y="1860120"/>
            <a:ext cx="7507080" cy="35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3000"/>
          </a:bodyPr>
          <a:p>
            <a:pPr marL="2844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0" indent="-28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717120" y="58226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59000" y="5822640"/>
            <a:ext cx="28958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359040" y="58226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6484-276D-4460-A295-0993C3315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479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8.3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New Civil Rights Issu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52320" y="534960"/>
            <a:ext cx="78375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343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0280" y="228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C. Kerner Commission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95560"/>
            <a:ext cx="411480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Study to see what caused          the rio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Racism key reas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Recommendations to stop         rio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reate 2 mil inner-c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6 mil units of publ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ederal commi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o fight de fa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1148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D. Shift to Economic Right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6120" y="1860120"/>
            <a:ext cx="366552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Felt non-viol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hel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r. King to Chicago, issue of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oved i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Chicago sl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64160" y="1874880"/>
            <a:ext cx="366552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3. Chicago Movemen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 March through 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Marquette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eighborho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 Met by a mo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. Mayor Richard J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ley met with MLK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J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i. Created a progra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/ MLK Jr, neve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2320" y="579600"/>
            <a:ext cx="78361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effects of the Civil Rights Act of 1964 on the African American Commun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E. Black Power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444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ng, urban blacks    turn from Dr. 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ew aggressive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rm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eparate areas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68840" y="1860480"/>
            <a:ext cx="366084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15760" y="685440"/>
            <a:ext cx="366372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ORE &amp; SNCC, expel white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tressed pride in African American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r. King did not agree w/ black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opular in poor neighborh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200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7835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. Malcolm X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226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ymbol of black power m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ation of Is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Black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lack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Live in separat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dvocated self-def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11800" y="1371600"/>
            <a:ext cx="3146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534600"/>
            <a:ext cx="7837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Lesson Objective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16120" y="1860120"/>
            <a:ext cx="751032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discuss the   Kerner Com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discuss why  economic rights became an issue for the Civil Rights M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explain the Black Power Movement and it's effects on the African American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31840" y="0"/>
            <a:ext cx="5115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3664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roke w/ Black Muslims in '6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raveled to Makkah (Mec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**Integrated society i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Shot and killed,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. 19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6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G. Black Panther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5760" y="1860480"/>
            <a:ext cx="366372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fluenced by Malcolm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volutio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Force whites to grant them their r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9116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86200" y="32004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6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H. King Assassinated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5760" y="1599840"/>
            <a:ext cx="3663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pril 4th, 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mphis, Te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tarted riots in over 100 c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ivil Rights Act of 1968, passed after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ovement slowed after his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86440" y="1371600"/>
            <a:ext cx="31431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1960" y="534600"/>
            <a:ext cx="7837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A. Urban Problems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7848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. 1965: 70% lived in the citi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. Trapped in the citi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. Lack of meaningful work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b. Average income: 55% of white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nco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. Unemployment rate, double that of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hit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B. Watts Riot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Neighborhood in L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llegations of poli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t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Lasted 6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14,000 Natio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1,500 Poli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4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579600"/>
            <a:ext cx="7837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3. Riots Across America</a:t>
            </a:r>
            <a:endParaRPr b="1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66552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Worst in Detroi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43 deaths, 1,0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wou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Army us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end ri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6:36Z</dcterms:created>
  <dc:creator>Milner Lab User</dc:creator>
  <dc:description/>
  <dc:language>en-US</dc:language>
  <cp:lastModifiedBy>School District U46</cp:lastModifiedBy>
  <dcterms:modified xsi:type="dcterms:W3CDTF">2011-04-13T13:10:11Z</dcterms:modified>
  <cp:revision>7</cp:revision>
  <dc:subject/>
  <dc:title>18.3 New Civil Rights Issues</dc:title>
</cp:coreProperties>
</file>